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BD6-734E-417E-8E13-BFAEB17D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DA9-993B-415A-AA7E-B13D123C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1100A-2639-424C-9E3D-36C0B179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ADDBF-4FB6-4BE2-9710-62302204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D8771-19FE-4229-96A6-E7026828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CC292-EE10-4226-8A75-1B545BC0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AC3D8-23B2-47B2-8AC9-6780C109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0739F-FCFD-41C1-9DA8-1CA1D8FB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89A8A-5389-4FD2-BE7B-BA1F9196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FC51C-FF15-4CD7-A14C-09306784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0095A-48E7-459E-8816-CC3FE70F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1608F-4C54-4478-8471-C37C0DF5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F18-DD15-4E2B-95E2-3F6D89DF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2B359-8206-49AA-AC12-23D57847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57602-308D-444C-89DF-DA43CA1E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9DCC5-ADA3-4603-AC78-4F2B275B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A9963-5242-4A1F-9D28-11581C69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28FC8-F66A-4710-806D-35946676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B7716-EE76-42DE-B1E5-98EEAFDA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60508-F92B-47F9-B77A-337DB4F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E94CC-1766-4383-8B4A-9A4572F9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C2986-C801-49C4-9088-09FD6BCC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967C5-67E9-4A7B-8363-A12C7E57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FAA-E68B-422A-BE44-7E5E0EAA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1F23D-F468-48B2-8E14-72A595D1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2E8B9-4505-4196-A9EC-DE72CC56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155B1-615A-4BE4-BD65-DA9F30FB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DF852-6DF3-49E0-84C8-77ADED2C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5862D-5689-463F-8A42-97E3A42D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3AD5F-21B0-470B-9824-4A9F3806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2D0E4-6E82-4291-B752-69DF09CC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A9DE3-F1A4-42A4-A110-A8C85E20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D7987-D614-4876-9826-7BAA66D7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C27FD-8DBF-41D7-92E0-70828543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7785-BE3E-4D58-84AD-7314F2C5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17507-B0F4-4878-A34B-881E8A2D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44AF1-1A3E-4CB4-A4A8-1A8B31A5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350B9-8A83-402C-ABD8-BCCAC6C9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1ABFB-92B3-45EA-AE15-A9079E3C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FEA84-D2C3-4439-B335-7A861A71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A8E1B-7DC8-4D7B-B04B-3E0281C0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46DCD-FA42-4B43-935A-85427845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73854-0917-48E7-A029-D0C0431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D774C-50F4-418F-8ED7-03045D22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3948D-3087-4888-8BA9-15879419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C662-9F3F-4695-B6B1-B5673F68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07355-3403-4F19-9B47-99B19581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D39C4-AE1C-4F49-88D3-0957F84F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33F55-AE11-4DC2-9E8F-5B0296D6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D0951-8A81-4FD2-93A9-E5A86255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D98FB-3F31-492F-8BEC-6E7462F0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0CC5E-E576-4477-8B65-5193CC06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B199F-94E7-4030-A6BA-55BD4EFC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F67E7-7881-4C43-B7B5-8F28F266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6B49F-93BA-4E85-B257-3C2D41A4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A4A5C-E2DE-498F-8911-82BCE126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AA32-DB95-4F3D-A402-86397176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1A077-7815-4ED0-8CB9-5417DFF7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6FB6C-EF70-441D-B484-280CCB16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D09B2-7615-4783-AB7A-798A7D46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05CE3-9635-4006-A677-DCDD6A3F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D59C4-5B35-41F8-9EFD-D33A92F4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8F157-E9CF-4EF5-9C9D-30904567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9DD10-7606-4A23-B495-6A79F52D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4B4F2-8462-4771-8FE9-4D059EAB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781EC-93F1-4341-BA23-6EB961BC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349DE-8347-4E7B-91BD-AEEF7F15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92B1-4C2A-464C-A90C-CDDE2879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CC5B9-9911-4652-A31E-66B1E5BF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7DD5AA-0F82-4667-9CDD-10412E19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37295-C19C-4B89-A31D-71FD8A60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BA4CF-B95B-46F2-A379-69F7F2F4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5BEEF-DCC6-49C5-A9D4-AFB7A49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112D9-DBDF-40C2-AA70-427F515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A5531-9DEE-4EF6-A081-AC0F0175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CC23D-42B4-446A-92C3-A7C2C3A0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479BF-1E8F-4342-A640-8A6EF5B6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A6702A-7619-4810-BC63-53707B8F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4535-7199-40D5-8C84-87381221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DEDB9-9E18-4573-A2CE-97F7C619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D2162-7F10-4F87-872F-CCB9EC72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1B019-C556-47EB-BAE5-23F7D38E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3D54B-5A19-474F-BFEE-3645D3D7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6663B-0D00-41F4-915E-EF8B68DE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2B7CE-507E-4FA3-9AE3-89053AAF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2B59A-823F-4C2E-A73F-B78EA9A7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D2F1E-CBD0-4E4E-9EB6-B8549B32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C117D-4F9D-4B72-9418-DA6AC335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B0F08-FB46-432E-AD02-9C5E46AA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6C55-7804-4EA5-84EC-878890E8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CCDB5-2C99-4DB4-AE84-A4790C74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756C3-3710-4218-A638-204AE526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56169-0AE7-40D0-9370-19EB76AF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5F74D7-EC79-48AB-B3F3-E6399D43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6655D-F041-4BE7-935F-40FF5FFC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4A69B-D7F5-46E5-86E2-DFBA0221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15DF1F-43EC-4B90-BDA6-5A57CC3B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99A5D-8B7B-433A-83F5-E8ED5499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4BC26-0B0B-4F6C-A33B-D8768161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31812-9F2B-4B2E-8F99-4B66135A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0358-53B5-49E5-A08D-4620D0E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AC8F2-9C6B-4189-9837-880F6736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4A417-E785-4200-9581-EA89F7AE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B853EF-5271-4994-88AE-8E17767F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DB368-E6CD-42AF-85D4-7E13104B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2B093-347E-4301-92BF-A1CFD785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56275-B64D-4C30-B748-5408EC09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8EC813-9625-4E05-8144-17BE5921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CFA47-50D8-4FCB-9166-11CA5B2D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50890C-BCE0-4723-8DB4-68914BAA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34F593-7481-4459-8DC5-7ED864C0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9D9-BB66-437B-9E18-060772BB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BA62-AC56-4990-B552-7DF6F6F0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2F964-5A73-455F-B8C9-D5967B40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5B48FA-57B8-49A2-8061-8AB7710F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190F7D-2B15-4CA6-9E2E-A354CD57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D5138-A125-46AC-9607-9E036E35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7C1C5-A9BC-4865-AE9F-DB20D0D7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A530B-006D-4138-8C47-773201DC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5765C9-AB1A-4F81-B6E1-B961D22B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74E323-7818-47DA-9EAB-BAE14E4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2069B-87B6-4335-85E1-2E0BBC0A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E9D28-08A0-43F3-9613-F4DB56B3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D1DB-5C1C-419F-BE44-7A685D7B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1E8A5-D8E0-4CC0-A648-830D3358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D871C-4260-4F23-89FD-C0702C39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1D9C76-2BF5-480A-8D0B-34AB9CC4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3E8F8-D365-40F4-89B8-FE24A202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A397A-B96F-472F-B4E5-DE9C9F90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69CF2D-3F78-4714-A943-F83E3EA8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0D44E6-069D-4827-BFD5-DA264731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B85BED-4308-4D14-9711-F0106CD8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050A2-1BDE-43DA-B7F3-43131874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079FB-F4AD-499C-AF3C-E665CABA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B9BF-627A-47C1-965C-5E3E4105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30991-C251-4184-A610-312923A7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E73B98-A262-49BE-B006-CFD1102F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F2CC77-FFA1-42DE-AD9D-E9E89EA3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740CA-BAC6-4853-B828-29B2C68A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F05F3B-4AFB-4CC4-98ED-CF95AA67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4D11DD-ED2E-4761-A944-E91A9392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4ACFCA-CA17-48B4-A28A-FA3B11E8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A2B4C0-1A05-4EC1-A21E-5513A6C3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6BF42-AB3E-4A11-BA2F-7451D372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EEFAB-081F-4829-9905-FAECC939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98FB-7B6B-4456-A997-D7FA1511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363C0-31FA-4A46-89BB-78239E83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44E0AC-7943-44FF-8677-A945D82F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12EFEC-244B-4D58-BCBF-A6C51BDB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5C5A94-5469-41AD-A0F3-987D8DA9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37C6D7-38D3-4551-8DE7-2F5C6622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ED9B67-4E4A-4224-B1AA-2A78DA97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7CF1C9-8768-40D7-8811-856B17BD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C8BF00-BABA-4712-8F84-970A84B7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855CC6-2CEF-40E0-8484-004A3F31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BC4729-74E9-4B81-807B-3F2140FB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273A-731B-4BA1-9987-D8399DE1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F0FE3-D94C-440C-B601-6A3EF6EE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A1FB65-00FC-4992-A4E1-9CFBF119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D6754C-ADBE-48A7-A884-D47B52CB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1A4C85-FCE2-4865-A31D-103A415E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4F26B-591C-4BE2-976E-10F4E481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4B7BD3-70A8-4FDA-80A4-FA47C4A5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8F9A98-7FE9-4E97-A607-16B6778F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85436-D48E-460E-91DA-F1C3040B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0A4454-750B-4EFD-A07D-9D8F4202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C9A480-153C-43C1-943B-76122B1B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C027F-7AED-42F3-8614-61ABF1D2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0AD80-10BA-4FE4-9E1B-8BC5D55F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ADF78-2B05-4D6B-AB51-1142A91D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50B2C2-918A-47EE-A81E-55D767FA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0481-89B2-4498-BD20-67E38BDF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081D1-3A05-4947-B564-C5E17AE2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FE3A-8280-4BEE-B104-2AACE21E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B29F-D1E5-48D0-BA92-51C412F3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A7F-2029-4849-B0FA-B4E793BD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1692-B16B-43A3-817D-84ADB28A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44C2-27F0-4425-B20B-D32CD38D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68A1-EEB4-436F-B762-8E1F671C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E55F-9AFE-4F42-92CB-C13F781F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6A219-6F14-47A5-B8D9-956D2A3C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31CF-9640-43B9-ACF9-49FBB6B4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9BA7-5E4E-4118-9AE6-FDB45C1B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FBEFD-E3F4-49D4-92EE-7B4EE87E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F7422-C4F5-43A0-AE17-3560E441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222C1-6031-4BCE-B5C9-20E4A21B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BB9-990C-415A-B3F6-8CEEF96C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F58C3-17C8-4696-9228-A7D27692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AE2E-BE2E-4DDF-AE5C-33838F0C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4A7C2-49AE-447C-A12D-77E31C09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67B1-ADA5-4F9C-961E-225A012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6C7BC-CE40-45AA-954B-B80DD35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A48A-0B0C-4FC7-B1E6-81DFCEFF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8690-BF5F-42BF-A6E1-895270E6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0D23-F939-439A-9CE3-153F5BAA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923EA-129F-4D3C-A5EA-4B88FD8B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3946A-726C-4832-87AC-B06E0299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58C-5133-4ACC-8311-CA69EE1C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C6B56-3240-4A1D-91DF-750B88DC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FB876-9C10-43DB-A93C-C45F2627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DEA8B-BF62-47C9-9606-A9F9195C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F4D26-4504-4A0A-BBAA-B668B984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2AF78-4B4B-452F-A42E-41ABA6BC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1FB83-4298-49DF-8974-3E0BF16D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8125D-3B0F-4DFC-A485-9C7C11D1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1D68C-4C89-4A5A-BDAA-F97223A7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05287-72B2-40B6-ACC8-47CF8EC3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DCDA2-FE98-47EF-95DA-072016DF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6FF-1A79-4F42-9C09-3E022EF9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F46CF-3368-44E2-8332-2135C03E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CFBAB-9D5E-43E4-97B2-84F3B14A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21989-AFB3-4491-ACF0-51A95792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54EF4-8791-4720-BA7F-CD6893C8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96AE8-8AE7-476F-AB78-BE12303C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CF34E-9B6D-4721-BBB4-FA3D3A88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713E1-9042-4DFA-9F05-E16503C1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E21E-D747-425B-9097-2A05A30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776B2-C777-49E8-87DA-44E81200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1EBDD-4CB2-4856-9BE5-2DD25B7D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EF7-C5A1-440D-91FD-25DE19B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26A7C-7CE3-4E66-86B6-19CA753A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DE4AF-5DCA-459E-A235-50A8176C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F0271-B400-425A-B57A-CE72EDE2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06F07-B04C-46A4-A190-2E3BB4FA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2B58D-E425-4C51-BAFD-892DFB52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86AF7-FD7E-4884-A801-4A0EECFF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F35B-7320-4CF4-8B7B-0442422F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CD98F-3088-4AC1-B682-9080E04C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E4CD5-90AD-4A2D-8D5C-28D4940C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4667B-ADFA-444B-819A-5AE105D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EFC-D1CB-4A43-BE16-D76C9DEB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35A2A-69DD-4895-AF31-E9AC31F3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D25AE-9D8F-4591-971A-E7CFD719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3EF4C-45F8-4B2F-AB62-9972082B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3CA3D-BB3B-4904-97E0-A8A8CBC8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7317C-E556-403B-85B3-EAFEFA86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1DD58-0D15-4118-A9E7-AE348E43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0BAC7-1265-437A-B6BB-88F5BBFB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D7C56-25E2-4695-8ACF-08F3D692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62372-3DD6-42D1-9140-569DA8DD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562D-DAAD-4C0C-B08A-2961BD4D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D06-3DAB-4F95-BFAD-F1D2092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6C8CA-F484-442A-947E-4630070C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B2EBA-8671-4BE5-8183-54F66EDD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3FECD-C2C8-401A-B189-DAD67119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3E60B-75FA-4380-86B9-1E8F551C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1B5EE-71CC-40B5-9AD7-93F309DC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CA010-FEBA-4CD4-8D0B-775D9A95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87F22-20BF-4CDE-AC6A-3AC8D837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889EF-0C09-41AB-B023-5C0A59B2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C8565-27D7-4997-BC4C-513C5475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CBFDD-E03B-4A6C-9B8B-1B867E66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00DC-AB0A-496F-9C83-600CFE374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6BB0-DABA-43F2-AF3A-1DA3AD04B7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6DE3-3181-47B5-ABDB-9607FF6BA3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7C4B-C38B-4EE6-907D-E9E2EFE19F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3B04-A42A-46DC-9A0B-CFC45F345D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4EDF-6B46-49E0-9331-7A364DE926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943E-3DAE-447A-9EDA-2EE624297D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1FF0-C92F-42A9-B097-86D83A3B54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94F5-6245-4184-9ACA-E4959B34DF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D6CB-4E68-4221-B446-7FE3F12407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9323-8B80-4220-B893-EE5835D69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E940-A656-4B0F-98BE-AB496FA7C4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716C-6B49-44BD-8CBC-296821D2C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DCDE-33E0-4298-9E92-DE7CDD81AF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35C5-5466-4EA6-A028-373E72F96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33AA-D376-423B-8725-7B67AD319A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D1F8-F15D-48D7-912C-94DD2EDC93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33E5-B314-4740-9BCC-7EF6503068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E815-51C7-4AF0-81E5-45C3BA2413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BF1D-DE5E-4BD9-BDA1-2A92DF195B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28C6-145E-4F63-BEC4-A1EF1173F3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DD6E-394D-42A8-993E-4289CDA79A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18BF-BA82-4E24-A897-F2CFAF254E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3E83-088E-4A71-8786-3937C020B2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C635-F504-4421-8951-753FF998F3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DC4F-79FB-4C45-B13F-7FF12296DA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898E-DD52-416D-8AEB-33773000BF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EAFF-BC42-4533-8C82-54D939E4C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A96E-42A9-4728-B32C-345574A121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E229-B82A-4414-A733-B32B661E07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FB63-25C6-46DE-904F-6ECEF91483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ACC4-1490-42A6-BA6E-3F179982E9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542D-DA03-4DB1-9EF5-337B675820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BC12-2233-420F-A3B3-EBA669B9B0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D953-3DFA-472A-8ED2-366FE67ED1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E16D-F3B1-4AFC-837D-3759206EC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CF43-CEAA-4F80-8D5E-D41811395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908A-B4F7-4976-921D-73FBBBEDB4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1340-FE9B-405F-90F3-84ABFDBF03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AC54-49E3-4F55-BEE7-2A87B142B0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781200" y="2716200"/>
            <a:ext cx="7581600" cy="7048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190600" y="3330720"/>
            <a:ext cx="476280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223920" y="1952640"/>
            <a:ext cx="8694720" cy="2952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187280" y="2637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18728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187280" y="381780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187280" y="4437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76320" y="752400"/>
            <a:ext cx="8991360" cy="535320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5122" descr=""/>
          <p:cNvPicPr/>
          <p:nvPr/>
        </p:nvPicPr>
        <p:blipFill>
          <a:blip r:embed="rId2"/>
          <a:stretch/>
        </p:blipFill>
        <p:spPr>
          <a:xfrm>
            <a:off x="770040" y="4724280"/>
            <a:ext cx="2303280" cy="55908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5123" descr=""/>
          <p:cNvPicPr/>
          <p:nvPr/>
        </p:nvPicPr>
        <p:blipFill>
          <a:blip r:embed="rId3"/>
          <a:stretch/>
        </p:blipFill>
        <p:spPr>
          <a:xfrm>
            <a:off x="3621240" y="4724280"/>
            <a:ext cx="2303280" cy="55908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5124" descr=""/>
          <p:cNvPicPr/>
          <p:nvPr/>
        </p:nvPicPr>
        <p:blipFill>
          <a:blip r:embed="rId4"/>
          <a:stretch/>
        </p:blipFill>
        <p:spPr>
          <a:xfrm>
            <a:off x="6659640" y="3990960"/>
            <a:ext cx="1728720" cy="55872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5125" descr=""/>
          <p:cNvPicPr/>
          <p:nvPr/>
        </p:nvPicPr>
        <p:blipFill>
          <a:blip r:embed="rId5"/>
          <a:stretch/>
        </p:blipFill>
        <p:spPr>
          <a:xfrm>
            <a:off x="6300720" y="4724280"/>
            <a:ext cx="1871640" cy="55908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126" descr=""/>
          <p:cNvPicPr/>
          <p:nvPr/>
        </p:nvPicPr>
        <p:blipFill>
          <a:blip r:embed="rId6"/>
          <a:stretch/>
        </p:blipFill>
        <p:spPr>
          <a:xfrm>
            <a:off x="755640" y="5445000"/>
            <a:ext cx="2160720" cy="55908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5127" descr=""/>
          <p:cNvPicPr/>
          <p:nvPr/>
        </p:nvPicPr>
        <p:blipFill>
          <a:blip r:embed="rId7"/>
          <a:stretch/>
        </p:blipFill>
        <p:spPr>
          <a:xfrm>
            <a:off x="4643280" y="5473800"/>
            <a:ext cx="10954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85680" y="1095480"/>
            <a:ext cx="8972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557280" y="1566720"/>
            <a:ext cx="8028000" cy="37245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2843280" y="1989000"/>
            <a:ext cx="1152360" cy="384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6659640" y="1989000"/>
            <a:ext cx="194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6:1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